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123.xml.rels" ContentType="application/vnd.openxmlformats-package.relationships+xml"/>
  <Override PartName="/ppt/notesSlides/_rels/notesSlide60.xml.rels" ContentType="application/vnd.openxmlformats-package.relationships+xml"/>
  <Override PartName="/ppt/notesSlides/_rels/notesSlide234.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8.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22.xml.rels" ContentType="application/vnd.openxmlformats-package.relationships+xml"/>
  <Override PartName="/ppt/notesSlides/_rels/notesSlide185.xml.rels" ContentType="application/vnd.openxmlformats-package.relationships+xml"/>
  <Override PartName="/ppt/notesSlides/_rels/notesSlide79.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36.xml.rels" ContentType="application/vnd.openxmlformats-package.relationships+xml"/>
  <Override PartName="/ppt/notesSlides/_rels/notesSlide248.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84.xml.rels" ContentType="application/vnd.openxmlformats-package.relationships+xml"/>
  <Override PartName="/ppt/notesSlides/_rels/notesSlide221.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2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244.xml.rels" ContentType="application/vnd.openxmlformats-package.relationships+xml"/>
  <Override PartName="/ppt/notesSlides/_rels/notesSlide154.xml.rels" ContentType="application/vnd.openxmlformats-package.relationships+xml"/>
  <Override PartName="/ppt/notesSlides/_rels/notesSlide238.xml.rels" ContentType="application/vnd.openxmlformats-package.relationships+xml"/>
  <Override PartName="/ppt/notesSlides/_rels/notesSlide148.xml.rels" ContentType="application/vnd.openxmlformats-package.relationships+xml"/>
  <Override PartName="/ppt/notesSlides/_rels/notesSlide245.xml.rels" ContentType="application/vnd.openxmlformats-package.relationships+xml"/>
  <Override PartName="/ppt/notesSlides/_rels/notesSlide231.xml.rels" ContentType="application/vnd.openxmlformats-package.relationships+xml"/>
  <Override PartName="/ppt/notesSlides/_rels/notesSlide194.xml.rels" ContentType="application/vnd.openxmlformats-package.relationships+xml"/>
  <Override PartName="/ppt/notesSlides/_rels/notesSlide24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236.xml.rels" ContentType="application/vnd.openxmlformats-package.relationships+xml"/>
  <Override PartName="/ppt/notesSlides/_rels/notesSlide227.xml.rels" ContentType="application/vnd.openxmlformats-package.relationships+xml"/>
  <Override PartName="/ppt/notesSlides/_rels/notesSlide226.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22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162.xml.rels" ContentType="application/vnd.openxmlformats-package.relationships+xml"/>
  <Override PartName="/ppt/notesSlides/_rels/notesSlide57.xml.rels" ContentType="application/vnd.openxmlformats-package.relationships+xml"/>
  <Override PartName="/ppt/notesSlides/_rels/notesSlide90.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58.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72.xml.rels" ContentType="application/vnd.openxmlformats-package.relationships+xml"/>
  <Override PartName="/ppt/notesSlides/_rels/notesSlide233.xml.rels" ContentType="application/vnd.openxmlformats-package.relationships+xml"/>
  <Override PartName="/ppt/notesSlides/_rels/notesSlide242.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1.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15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7.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43.xml.rels" ContentType="application/vnd.openxmlformats-package.relationships+xml"/>
  <Override PartName="/ppt/notesSlides/_rels/notesSlide153.xml.rels" ContentType="application/vnd.openxmlformats-package.relationships+xml"/>
  <Override PartName="/ppt/notesSlides/_rels/notesSlide191.xml.rels" ContentType="application/vnd.openxmlformats-package.relationships+xml"/>
  <Override PartName="/ppt/notesSlides/_rels/notesSlide12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223.xml.rels" ContentType="application/vnd.openxmlformats-package.relationships+xml"/>
  <Override PartName="/ppt/notesSlides/_rels/notesSlide195.xml.rels" ContentType="application/vnd.openxmlformats-package.relationships+xml"/>
  <Override PartName="/ppt/notesSlides/_rels/notesSlide232.xml.rels" ContentType="application/vnd.openxmlformats-package.relationships+xml"/>
  <Override PartName="/ppt/notesSlides/_rels/notesSlide224.xml.rels" ContentType="application/vnd.openxmlformats-package.relationships+xml"/>
  <Override PartName="/ppt/notesSlides/_rels/notesSlide99.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3.xml" ContentType="application/vnd.openxmlformats-officedocument.presentationml.notesSlide+xml"/>
  <Override PartName="/ppt/notesSlides/notesSlide123.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22.xml" ContentType="application/vnd.openxmlformats-officedocument.presentationml.notesSlide+xml"/>
  <Override PartName="/ppt/notesSlides/notesSlide16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232.xml" ContentType="application/vnd.openxmlformats-officedocument.presentationml.notesSlide+xml"/>
  <Override PartName="/ppt/notesSlides/notesSlide39.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notesSlides/notesSlide191.xml" ContentType="application/vnd.openxmlformats-officedocument.presentationml.notesSlide+xml"/>
  <Override PartName="/ppt/notesSlides/notesSlide22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17.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179.xml" ContentType="application/vnd.openxmlformats-officedocument.presentationml.notesSlid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73.xml" ContentType="application/vnd.openxmlformats-officedocument.presentationml.notesSlide+xml"/>
  <Override PartName="/ppt/notesSlides/notesSlide175.xml" ContentType="application/vnd.openxmlformats-officedocument.presentationml.notesSlide+xml"/>
  <Override PartName="/ppt/notesSlides/notesSlide238.xml" ContentType="application/vnd.openxmlformats-officedocument.presentationml.notesSlide+xml"/>
  <Override PartName="/ppt/notesSlides/notesSlide60.xml" ContentType="application/vnd.openxmlformats-officedocument.presentationml.notesSlide+xml"/>
  <Override PartName="/ppt/notesSlides/notesSlide195.xml" ContentType="application/vnd.openxmlformats-officedocument.presentationml.notesSlide+xml"/>
  <Override PartName="/ppt/notesSlides/notesSlide224.xml" ContentType="application/vnd.openxmlformats-officedocument.presentationml.notesSlide+xml"/>
  <Override PartName="/ppt/notesSlides/notesSlide225.xml" ContentType="application/vnd.openxmlformats-officedocument.presentationml.notesSlide+xml"/>
  <Override PartName="/ppt/notesSlides/notesSlide22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218.xml" ContentType="application/vnd.openxmlformats-officedocument.presentationml.notesSlide+xml"/>
  <Override PartName="/ppt/notesSlides/notesSlide189.xml" ContentType="application/vnd.openxmlformats-officedocument.presentationml.notesSlide+xml"/>
  <Override PartName="/ppt/notesSlides/notesSlide249.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248.xml" ContentType="application/vnd.openxmlformats-officedocument.presentationml.notesSlide+xml"/>
  <Override PartName="/ppt/notesSlides/notesSlide176.xml" ContentType="application/vnd.openxmlformats-officedocument.presentationml.notesSlide+xml"/>
  <Override PartName="/ppt/notesSlides/notesSlide236.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247.xml" ContentType="application/vnd.openxmlformats-officedocument.presentationml.notesSlide+xml"/>
  <Override PartName="/ppt/notesSlides/notesSlide235.xml" ContentType="application/vnd.openxmlformats-officedocument.presentationml.notesSlide+xml"/>
  <Override PartName="/ppt/notesSlides/notesSlide246.xml" ContentType="application/vnd.openxmlformats-officedocument.presentationml.notesSlide+xml"/>
  <Override PartName="/ppt/notesSlides/notesSlide234.xml" ContentType="application/vnd.openxmlformats-officedocument.presentationml.notesSlide+xml"/>
  <Override PartName="/ppt/notesSlides/notesSlide185.xml" ContentType="application/vnd.openxmlformats-officedocument.presentationml.notesSlide+xml"/>
  <Override PartName="/ppt/notesSlides/notesSlide228.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7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229.xml" ContentType="application/vnd.openxmlformats-officedocument.presentationml.notesSlide+xml"/>
  <Override PartName="/ppt/notesSlides/notesSlide174.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70.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7.xml" ContentType="application/vnd.openxmlformats-officedocument.presentationml.notesSlide+xml"/>
  <Override PartName="/ppt/notesSlides/notesSlide192.xml" ContentType="application/vnd.openxmlformats-officedocument.presentationml.notesSlide+xml"/>
  <Override PartName="/ppt/notesSlides/notesSlide221.xml" ContentType="application/vnd.openxmlformats-officedocument.presentationml.notesSlide+xml"/>
  <Override PartName="/ppt/notesSlides/notesSlide78.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73EE-525F-479C-A319-33165A1AE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A012-BEED-48EC-A6DE-5AD6AA489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2301-F21B-4836-ACC8-18DBE910B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1B65-1808-4D23-AC38-52BCD3522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27BC-6632-457D-98D4-E74F26083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EF16-B561-454C-97BA-7E5A71E55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3C68-E213-479A-B458-0CE7B4039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C35C-5A6F-4165-83B0-35C313D82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46B7-AFF3-42E0-B8EE-86C9CC059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58D8-129F-4E28-90C5-D41ACE344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55E9-CB7B-438C-80D8-34DD56A71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2EB7-2712-4278-9A94-4B9E520F6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DB29-E0E2-40BE-8870-C9930CCEB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E616-1882-45F7-A94C-0CB30635E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E441-FBB4-4E73-8AA0-967879883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309F-F07A-4F38-A642-1A704DC46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979D-EFD2-4D6A-BD7F-E6BFC76FC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31D4-AF10-43A7-9AC2-7DB8CF7E1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C3FF-96CC-4CE8-9CD4-4C049E262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B2AA-41D0-4918-A2B1-AEBB9CAC0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769B-2CD4-4912-A1FC-A3F0E4C35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2052-903D-4E6B-ADB6-A49659CC6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FB51-2686-439A-B7EA-9767A1BC6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F752-F271-4A1F-8D60-40909CB5A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E3C3-5263-49CC-B1CC-BB5AED3B2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8DE-8FE3-4A5C-8570-AD56432E5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EE67-F804-48D0-8C95-2D32932CE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C5FE-6E83-4E6A-882C-0A414E0A2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75B7-5EEE-4EB1-AD81-E41CCD610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931A-43A4-42E7-AFD2-739DEDB44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4BC9-12EC-409B-A4B6-16D799833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F368-4489-4EAA-A387-2CB288621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D637-A41D-4064-9250-AA20950BB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F7D9-1625-46D6-8794-9555A2282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14A8-98A9-448F-88C9-4DC12333C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E396-9D39-46F3-AB93-A9CA08231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D781-AE80-43DB-BE6C-D4B70280E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CD41-5E6A-429A-B598-D90B7A02E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B8F4-8C0C-47D5-A643-0A57613F7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A2A1-8CC1-4C08-ADCA-975F3D9A3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D1FD-C62C-42FD-BE4C-154A4467C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F859-39BC-4C1C-854F-FF1DBC266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840F-CDC6-420B-AEF0-29D0B1E1C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A767-81AD-4512-9FE1-4D9E3CBDC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E1FE-5F8A-4AE0-8EDC-6D855E8F3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F6BB-033D-4AE3-A115-D034E3D30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3716-9EEF-4CD6-8DF6-6999AF7FA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91DD-75D0-48FC-A878-E1C9D0D76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177C-5B70-44A6-ACE6-70E4B060A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C706-0541-4579-904B-28B473209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E0E6-0AF6-4E86-BE8B-05DEF4F82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DDC0-931A-40D7-B9A4-E154EFF2B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C421-8316-4155-B2DF-265CDA17F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36C3-2A8A-4134-BE19-FC9A01E18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2188-08C2-42DE-88AC-9C89B8C34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F612-0BA7-46CE-8495-2E904A5AF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637-1F6D-400E-B337-8130782DA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4909-9E43-49D3-A3DB-254B648BA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23F5-A8EC-4516-8BE5-38D20C132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5E11-9B6B-471E-8193-2E4027730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9310-4AAA-405A-AF67-2D6CA4417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3D0B-0DE1-4355-A68C-3F17CF327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997-B8AB-42E4-81A3-62732D2B0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ABFB-8BEA-4CB9-9E8A-AAFA6578C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BB4B-ACCC-44F9-9B5E-F1B0B2C12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4842-86FC-43F5-9213-0F8EEA51D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2830-81EA-4C41-B981-720E63FAF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E782-097A-44AE-B0A9-EAE6BF2B5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18E1-8473-4B1A-A524-99607D550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17FE-92A5-4084-A150-487A4836A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A010-293B-4BDD-8631-45D014F0A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FCD2-1AE1-409A-A062-36239BD43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3FA0-3A73-4B09-ABC7-5CB367DFB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FFFB-5E69-4A8D-944C-6460E4023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33A5-5590-4424-AF96-1DDC6068E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285D-595E-41A6-825B-0E0FC395A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5674-873B-4D7D-A978-97DF89D90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9356-C49C-4665-80E8-1A6B96EC2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AF50-C0AD-4D49-9109-D67A62960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9C72-DA75-4023-B448-CD873B8A4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0F1E-9099-4EB6-8B5F-3B7A173B5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E198-87A4-4F7F-BBBA-D5715C421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0F27-52DD-44FF-8686-5D8BFDBA3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C071-38E7-4070-ABFE-A273C8623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6C53-5D0D-4E16-B44F-7FF2153D5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64EC-E51F-4C84-AD3D-3CEF2BEE1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3306-A6AC-4D86-B8B5-1373B8CCD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6D16-B2AA-46A2-86B4-D3FBDFC3D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8697-96A2-44E8-8232-D228E75DC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BEBD-7362-452F-B77E-FCB88780D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8C69-830B-4393-A16E-17BCE0373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074C-E583-44C3-BD07-E0636CAF2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E073-91A0-49DC-85BB-D562E6CA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1BA5-B87D-4458-AA10-07BF23555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8006-F446-43EA-8A36-C9759832C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9E44-9066-4747-969E-D327E3DFE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9F0D-7389-410A-A312-9E6C28422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0AA2-1D1E-4056-BEC9-2B998111F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CBA8-D64D-447B-B244-93E56BB65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4F7D-5880-4A60-91C7-FCF9C0E90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6C51-6D11-4015-8094-77FE319C7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7260-C5D5-4A72-B5E5-C8EAE826D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10BB-2B6F-428F-8C2B-2BE6108D6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579B-FA9B-44C8-9ED3-B0F261BFC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7BE0-7CA0-4D41-97BE-73B2C3C13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73A4-9F2E-45D0-B647-C4479E242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CDE6-AF4F-4B06-9125-E7A05A2EA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86B7-BC12-4B82-8284-8B1F4CEAF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94DE-CC6B-4B14-B3A9-B080300FC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ABA-72E2-42D9-9303-95D97E98E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E754-E865-4815-947F-BE797D255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156C-E5A6-47BA-B87B-789860A17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04B-1769-4EFA-A274-D1FDB29B9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7303-13AB-40A6-B781-103254B09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41C-1C2F-4CCD-93FA-D3BD340B4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436B-0181-422E-97DD-129CEB9EA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9FDE-36BA-4BEC-B792-B043D3628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CCD4-8B66-4044-B3C5-D01DEDF5D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BBB7-E49D-468B-B2BB-187296725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C866-C0BA-49E6-9537-9694E09AD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726A-8C2D-4CF2-A6D2-7E6B9287B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5366-8BA8-42CF-8BFB-D961FB37F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69B0-DA8F-4995-8C1D-458A6EE57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87CE8-7454-4335-AC27-4BD6D50D9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3C92B-8D83-4BE5-992C-12D1BB08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C78F-34ED-4AB1-A870-12D732168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2E8D-2373-4753-BB90-D3A78A80C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96B2-4BBA-4160-9E7C-44C972F4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B4259-E069-4B4A-AEE0-D29B082B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B442-F7F4-473C-8464-9ED4C61B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28FC2-DDE4-43AD-BACA-56E15DA7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FE92-C59C-4454-A064-E8939143C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662E-1A4C-47B2-8C88-D8860DF1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19C6-B354-49B4-85A2-31A12997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67F8-E4F5-4FD6-8151-FF90F52C5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35AA-BF09-456D-8EDD-589D25B57D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Power and the Bureaucrac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e will see, these agencies were created over time – piecemeal – by Congress in response to various events over American history. Some argue that this expansion is a pragmatic response to the actual problems that have occurr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 was passed during this time as 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1/10/89 – 9/11/01 (?)</a:t>
            </a:r>
            <a:br>
              <a:rPr sz="4400"/>
            </a:br>
            <a:br>
              <a:rPr sz="3200"/>
            </a:br>
            <a:r>
              <a:rPr b="0" lang="en-US" sz="3200" spc="-1" strike="noStrike">
                <a:solidFill>
                  <a:srgbClr val="000000"/>
                </a:solidFill>
                <a:latin typeface="Calibri"/>
              </a:rPr>
              <a:t>This theory argues that the power of the president diminished for a variety of reasons. The dates are controversial, but they start with the fall of the Berlin Wall and the attacks on 9/11. This spans a brief period of time when foreign threats were minimal and the economy was expa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read from 1993: The First Postmodern Presidency. And from 2003: The Post-Modern President. And 2008: Is Obama the First Postmodern President?</a:t>
            </a:r>
            <a:r>
              <a:rPr b="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for strong presidential leadership during times of peace and prosperity.</a:t>
            </a:r>
            <a:br>
              <a:rPr sz="4400"/>
            </a:br>
            <a:br>
              <a:rPr sz="4400"/>
            </a:br>
            <a:r>
              <a:rPr b="0" lang="en-US" sz="4400" spc="-1" strike="noStrike">
                <a:solidFill>
                  <a:srgbClr val="000000"/>
                </a:solidFill>
                <a:latin typeface="Calibri"/>
              </a:rPr>
              <a:t>This was the opposite of what existed when FDR was elected in 1932 during the Great Depression and the emergence of communism and fas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longer a need for a strong foreign presence. </a:t>
            </a:r>
            <a:br>
              <a:rPr sz="4400"/>
            </a:br>
            <a:br>
              <a:rPr sz="4400"/>
            </a:br>
            <a:r>
              <a:rPr b="0" lang="en-US" sz="4400" spc="-1" strike="noStrike">
                <a:solidFill>
                  <a:srgbClr val="000000"/>
                </a:solidFill>
                <a:latin typeface="Calibri"/>
              </a:rPr>
              <a:t>The role of strong commander in chief was re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efforts to reduce the size of the national bureaucracy by either privatizing functions, or devolving them down to the states or lo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idents elected during this period – and just before - has more experience at the state level than the national level. The following presidents were governors prior to becoming president: </a:t>
            </a:r>
            <a:br>
              <a:rPr sz="3600"/>
            </a:br>
            <a:br>
              <a:rPr sz="3600"/>
            </a:br>
            <a:r>
              <a:rPr b="0" lang="en-US" sz="3600" spc="-1" strike="noStrike">
                <a:solidFill>
                  <a:srgbClr val="000000"/>
                </a:solidFill>
                <a:latin typeface="Calibri"/>
              </a:rPr>
              <a:t>Carter</a:t>
            </a:r>
            <a:br>
              <a:rPr sz="3600"/>
            </a:br>
            <a:r>
              <a:rPr b="0" lang="en-US" sz="3600" spc="-1" strike="noStrike">
                <a:solidFill>
                  <a:srgbClr val="000000"/>
                </a:solidFill>
                <a:latin typeface="Calibri"/>
              </a:rPr>
              <a:t>Reagan</a:t>
            </a:r>
            <a:br>
              <a:rPr sz="3600"/>
            </a:br>
            <a:r>
              <a:rPr b="0" lang="en-US" sz="3600" spc="-1" strike="noStrike">
                <a:solidFill>
                  <a:srgbClr val="000000"/>
                </a:solidFill>
                <a:latin typeface="Calibri"/>
              </a:rPr>
              <a:t>Clinton</a:t>
            </a:r>
            <a:br>
              <a:rPr sz="3600"/>
            </a:br>
            <a:r>
              <a:rPr b="0" lang="en-US" sz="3600" spc="-1" strike="noStrike">
                <a:solidFill>
                  <a:srgbClr val="000000"/>
                </a:solidFill>
                <a:latin typeface="Calibri"/>
              </a:rPr>
              <a:t>W. Bus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mmunications environment also changed considerably. </a:t>
            </a:r>
            <a:br>
              <a:rPr sz="3600"/>
            </a:br>
            <a:br>
              <a:rPr sz="3600"/>
            </a:br>
            <a:r>
              <a:rPr b="0" lang="en-US" sz="3600" spc="-1" strike="noStrike">
                <a:solidFill>
                  <a:srgbClr val="000000"/>
                </a:solidFill>
                <a:latin typeface="Calibri"/>
              </a:rPr>
              <a:t>When FDR was able to use radios to connect with the general population, there were few options other than radio for mass media. The president could dominate communications, and it was one w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clear guidance in the Constitution about what the full extent of executive power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true for the early years of television. There were a small number of networks through the late 1970s, so it was relatively easy for presidents to dominate the airwaves. Presidential televised events were major movers of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changed as media technology improved and presidential communications could be challenged b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vents: </a:t>
            </a:r>
            <a:br>
              <a:rPr sz="4400"/>
            </a:br>
            <a:br>
              <a:rPr sz="4400"/>
            </a:br>
            <a:r>
              <a:rPr b="0" lang="en-US" sz="4400" spc="-1" strike="noStrike">
                <a:solidFill>
                  <a:srgbClr val="000000"/>
                </a:solidFill>
                <a:latin typeface="Calibri"/>
              </a:rPr>
              <a:t>24 hour cable news</a:t>
            </a:r>
            <a:br>
              <a:rPr sz="4400"/>
            </a:br>
            <a:r>
              <a:rPr b="0" lang="en-US" sz="4400" spc="-1" strike="noStrike">
                <a:solidFill>
                  <a:srgbClr val="000000"/>
                </a:solidFill>
                <a:latin typeface="Calibri"/>
              </a:rPr>
              <a:t>The VCR</a:t>
            </a:r>
            <a:br>
              <a:rPr sz="4400"/>
            </a:br>
            <a:r>
              <a:rPr b="0" lang="en-US" sz="4400" spc="-1" strike="noStrike">
                <a:solidFill>
                  <a:srgbClr val="000000"/>
                </a:solidFill>
                <a:latin typeface="Calibri"/>
              </a:rPr>
              <a:t>Hundreds of channels</a:t>
            </a:r>
            <a:br>
              <a:rPr sz="4400"/>
            </a:br>
            <a:r>
              <a:rPr b="0" lang="en-US" sz="4400" spc="-1" strike="noStrike">
                <a:solidFill>
                  <a:srgbClr val="000000"/>
                </a:solidFill>
                <a:latin typeface="Calibri"/>
              </a:rPr>
              <a:t>The Internet</a:t>
            </a:r>
            <a:br>
              <a:rPr sz="4400"/>
            </a:br>
            <a:r>
              <a:rPr b="0" lang="en-US" sz="4400" spc="-1" strike="noStrike">
                <a:solidFill>
                  <a:srgbClr val="000000"/>
                </a:solidFill>
                <a:latin typeface="Calibri"/>
              </a:rPr>
              <a:t>Facebook, Twitter,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far less able now to set the national agenda since they cannot control the bulk of 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e question is: </a:t>
            </a:r>
            <a:br>
              <a:rPr sz="4400"/>
            </a:br>
            <a:br>
              <a:rPr sz="4400"/>
            </a:br>
            <a:r>
              <a:rPr b="0" lang="en-US" sz="4400" spc="-1" strike="noStrike">
                <a:solidFill>
                  <a:srgbClr val="000000"/>
                </a:solidFill>
                <a:latin typeface="Calibri"/>
              </a:rPr>
              <a:t>What is the state of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br>
              <a:rPr sz="4400"/>
            </a:br>
            <a:br>
              <a:rPr sz="4400"/>
            </a:br>
            <a:r>
              <a:rPr b="0" lang="en-US" sz="4400" spc="-1" strike="noStrike">
                <a:solidFill>
                  <a:srgbClr val="000000"/>
                </a:solidFill>
                <a:latin typeface="Calibri"/>
              </a:rPr>
              <a:t>As a result of each crisis, institutions were created in order to respond to the factors believed to lead to those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9/11, the Department of Homeland Security was established as well as various laws which expanded presidential surveillance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institutional changes followed the financial crash, as well as any other cr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come to terms with the expanded size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no executive departments are created in the Constitution – though their potential existence is alluded to, and certain functions (armies, navies, post offices, a treasury, etc…) are men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st Congress established the first three executive departments.</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12 more have been c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 these departments exists a large number of smaller agencies the perform more defined tasks. Others exist independent of these departments.</a:t>
            </a:r>
            <a:br>
              <a:rPr sz="4400"/>
            </a:br>
            <a:br>
              <a:rPr sz="4400"/>
            </a:br>
            <a:r>
              <a:rPr b="0" lang="en-US" sz="4400" spc="-1" strike="noStrike">
                <a:solidFill>
                  <a:srgbClr val="000000"/>
                </a:solidFill>
                <a:latin typeface="Calibri"/>
              </a:rPr>
              <a:t>More on this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to get an idea about how many agencies we’re talking about,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br>
              <a:rPr sz="4400"/>
            </a:br>
            <a:br>
              <a:rPr sz="4400"/>
            </a:br>
            <a:r>
              <a:rPr b="0" lang="en-US" sz="4400" spc="-1" strike="noStrike">
                <a:solidFill>
                  <a:srgbClr val="000000"/>
                </a:solidFill>
                <a:latin typeface="Calibri"/>
              </a:rPr>
              <a:t>They were all controversial at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note that these departments were all created at some point by an act of Congress in response to some new event or crisis. By creating these departments, Congress institutionalized a response to those problems.</a:t>
            </a:r>
            <a:br>
              <a:rPr sz="3200"/>
            </a:br>
            <a:br>
              <a:rPr sz="3200"/>
            </a:br>
            <a:r>
              <a:rPr b="0" lang="en-US" sz="3200" spc="-1" strike="noStrike">
                <a:solidFill>
                  <a:srgbClr val="000000"/>
                </a:solidFill>
                <a:latin typeface="Calibri"/>
              </a:rPr>
              <a:t>Its worth taking a slow walk through the events that led to each department’s exis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ing by doing so Congress also granted a degree of discretionary power to each institution. As we will discuss below, these agencies have been granted rulemaking power, which allows them to fine tune the legislation they are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Lowi (the author of the text I don’t make you buy) points out that two American Presidents had different opinions about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ants the bureaucracy – which is unelected – a degree of legislative power. Some find this power problematic because the bureaucracy is not directly accountable to the electorate. Others see it as a way to ensure that policies are implemented profess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mplicating factor is that each department and agency has a constituency that get tangible benefits from that agency and will fight to ensure that once established they are p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major local example is the Johnson Space Center which pumps billions of dollars a year into the local economy. </a:t>
            </a:r>
            <a:br>
              <a:rPr sz="4400"/>
            </a:br>
            <a:br>
              <a:rPr sz="4400"/>
            </a:br>
            <a:r>
              <a:rPr b="0" lang="en-US" sz="4400" spc="-1" strike="noStrike">
                <a:solidFill>
                  <a:srgbClr val="000000"/>
                </a:solidFill>
                <a:latin typeface="Calibri"/>
              </a:rPr>
              <a:t>What would happen to the local economy if it was suddenly terminated? What would area groups do to prevent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nsider for a moment that every agency in existence has a similar group surrounding it that fights to preserve them. </a:t>
            </a:r>
            <a:br>
              <a:rPr sz="4400"/>
            </a:br>
            <a:br>
              <a:rPr sz="4400"/>
            </a:br>
            <a:r>
              <a:rPr b="0" lang="en-US" sz="4400" spc="-1" strike="noStrike">
                <a:solidFill>
                  <a:srgbClr val="000000"/>
                </a:solidFill>
                <a:latin typeface="Calibri"/>
              </a:rPr>
              <a:t>This explains why it is so difficult cutting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pecial interests often get involved in political campaign for the explicit purpose of being able to influence who get placed in regulatory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successful, a powerful interest can “capture” the agency that regulates it (agency capture), which the agency to then use governmental power to solidify its position and regulate away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reviously mentioned that the First Congress established three major departments – these are still considered to be the most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 saw it as an active office and presidents ought to drive events. </a:t>
            </a:r>
            <a:br>
              <a:rPr sz="4400"/>
            </a:br>
            <a:br>
              <a:rPr sz="4400"/>
            </a:br>
            <a:r>
              <a:rPr b="0" lang="en-US" sz="4400" spc="-1" strike="noStrike">
                <a:solidFill>
                  <a:srgbClr val="000000"/>
                </a:solidFill>
                <a:latin typeface="Calibri"/>
              </a:rPr>
              <a:t>William Howard Taft saw it as passive office and presidents must restrict themselves to whatever Congress could – constitutionally – require them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created to serve as the nation’s top attorney. Now the Attorney General also heads the Justice Department, but that department would not be created until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first three departments, along with the Attorney General, are considered the most important of the executive positions and are sometimes referred to as the Inner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dore Roosevelt: “My view was that every executive officer, and above all every executive officer in high position, was a steward of the people and bound actively and affirmatively to do all he could for the people. . . . My view was that it was not only his right but his duty to do anything that the needs of the nation demanded unless such action was forbidden by the Constitution or by the law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Under this interpretation of executive power I did and caused to be done many things not previously not done by the president and the heads of the departments. I did not usurp power, but I did greatly broaden the use of executive power. In other words, I acted for the public welfare, I acted for the common well-being of all out people, whenever and in whatever manner was necessary, unless prevented by direct constitutional or legislative prohi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ummary – if a power was not explicitly forbidden, it was allowed. </a:t>
            </a:r>
            <a:br>
              <a:rPr sz="4400"/>
            </a:br>
            <a:br>
              <a:rPr sz="4400"/>
            </a:br>
            <a:r>
              <a:rPr b="0" lang="en-US" sz="4400" spc="-1" strike="noStrike">
                <a:solidFill>
                  <a:srgbClr val="000000"/>
                </a:solidFill>
                <a:latin typeface="Calibri"/>
              </a:rPr>
              <a:t>This was in-keeping with his general temperament. </a:t>
            </a:r>
            <a:br>
              <a:rPr sz="4400"/>
            </a:br>
            <a:br>
              <a:rPr sz="4400"/>
            </a:br>
            <a:r>
              <a:rPr b="0" lang="en-US" sz="4400" spc="-1" strike="noStrike">
                <a:solidFill>
                  <a:srgbClr val="000000"/>
                </a:solidFill>
                <a:latin typeface="Calibri"/>
              </a:rPr>
              <a:t>He was a baaaaad 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ak.buzzfed.com/static/enhanced/terminal01/2011/2/23/12/enhanced-buzz-10089-1298482739-17.jpg"/>
          <p:cNvPicPr/>
          <p:nvPr/>
        </p:nvPicPr>
        <p:blipFill>
          <a:blip r:embed="rId1"/>
          <a:stretch/>
        </p:blipFill>
        <p:spPr>
          <a:xfrm>
            <a:off x="304920" y="91440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 really didn’t happen.</a:t>
            </a:r>
            <a:br>
              <a:rPr sz="4400"/>
            </a:br>
            <a:br>
              <a:rPr sz="4400"/>
            </a:br>
            <a:r>
              <a:rPr b="0" lang="en-US" sz="4400" spc="-1" strike="noStrike">
                <a:solidFill>
                  <a:srgbClr val="000000"/>
                </a:solidFill>
                <a:latin typeface="Calibri"/>
              </a:rPr>
              <a:t>But this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nstitutional design of the US executive branch – as well as the Texas executive – and the various issues associated with thos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latinamericanstudies.org/spanwar/rough-riders.jpg"/>
          <p:cNvPicPr/>
          <p:nvPr/>
        </p:nvPicPr>
        <p:blipFill>
          <a:blip r:embed="rId1"/>
          <a:stretch/>
        </p:blipFill>
        <p:spPr>
          <a:xfrm>
            <a:off x="520560" y="123840"/>
            <a:ext cx="8089920" cy="65055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roughri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ings he did as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critical assessment of his presidency: </a:t>
            </a:r>
            <a:br>
              <a:rPr sz="4400"/>
            </a:br>
            <a:br>
              <a:rPr sz="4400"/>
            </a:br>
            <a:r>
              <a:rPr b="0" lang="en-US" sz="4400" spc="-1" strike="noStrike">
                <a:solidFill>
                  <a:srgbClr val="000000"/>
                </a:solidFill>
                <a:latin typeface="Calibri"/>
              </a:rPr>
              <a:t>Theodore Roosevelt and the Modern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manner in which the US executive has expanded over time. </a:t>
            </a:r>
            <a:br>
              <a:rPr sz="3200"/>
            </a:br>
            <a:r>
              <a:rPr b="0" lang="en-US" sz="3200" spc="-1" strike="noStrike">
                <a:solidFill>
                  <a:srgbClr val="000000"/>
                </a:solidFill>
                <a:latin typeface="Calibri"/>
              </a:rPr>
              <a:t>- What departments were first created and which were added over time? </a:t>
            </a:r>
            <a:br>
              <a:rPr sz="3200"/>
            </a:br>
            <a:r>
              <a:rPr b="0" lang="en-US" sz="3200" spc="-1" strike="noStrike">
                <a:solidFill>
                  <a:srgbClr val="000000"/>
                </a:solidFill>
                <a:latin typeface="Calibri"/>
              </a:rPr>
              <a:t>- What different personnel heads the various departments and agencies?</a:t>
            </a:r>
            <a:br>
              <a:rPr sz="3200"/>
            </a:br>
            <a:r>
              <a:rPr b="0" lang="en-US" sz="3200" spc="-1" strike="noStrike">
                <a:solidFill>
                  <a:srgbClr val="000000"/>
                </a:solidFill>
                <a:latin typeface="Calibri"/>
              </a:rPr>
              <a:t>- What three different groups exist to provide advice to the president?</a:t>
            </a:r>
            <a:br>
              <a:rPr sz="3200"/>
            </a:br>
            <a:r>
              <a:rPr b="0" lang="en-US" sz="3200" spc="-1" strike="noStrike">
                <a:solidFill>
                  <a:srgbClr val="000000"/>
                </a:solidFill>
                <a:latin typeface="Calibri"/>
              </a:rPr>
              <a:t>- What is agency capture? What does it tell us about the factors that influence behavior in executive agen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fferent attitudes have presidents taken toward the role of the executive according to the Constitution? </a:t>
            </a:r>
            <a:br>
              <a:rPr sz="3200"/>
            </a:br>
            <a:r>
              <a:rPr b="0" lang="en-US" sz="3200" spc="-1" strike="noStrike">
                <a:solidFill>
                  <a:srgbClr val="000000"/>
                </a:solidFill>
                <a:latin typeface="Calibri"/>
              </a:rPr>
              <a:t>- What factors have led to the increase of presidential power over time?</a:t>
            </a:r>
            <a:br>
              <a:rPr sz="3200"/>
            </a:br>
            <a:r>
              <a:rPr b="0" lang="en-US" sz="3200" spc="-1" strike="noStrike">
                <a:solidFill>
                  <a:srgbClr val="000000"/>
                </a:solidFill>
                <a:latin typeface="Calibri"/>
              </a:rPr>
              <a:t>- Be familiar with the various “eras” of the presidency.</a:t>
            </a:r>
            <a:br>
              <a:rPr sz="3200"/>
            </a:br>
            <a:r>
              <a:rPr b="0" lang="en-US" sz="3200" spc="-1" strike="noStrike">
                <a:solidFill>
                  <a:srgbClr val="000000"/>
                </a:solidFill>
                <a:latin typeface="Calibri"/>
              </a:rPr>
              <a:t>- What is the modern presidency? Who was argued to be the first “modern” president? What factors augmented his power?</a:t>
            </a:r>
            <a:br>
              <a:rPr sz="3200"/>
            </a:br>
            <a:r>
              <a:rPr b="0" lang="en-US" sz="3200" spc="-1" strike="noStrike">
                <a:solidFill>
                  <a:srgbClr val="000000"/>
                </a:solidFill>
                <a:latin typeface="Calibri"/>
              </a:rPr>
              <a:t>- What is the bureaucr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replaced by his Vice President – William Howard Taft – who had a polar opposite view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current state of presidential power?</a:t>
            </a:r>
            <a:br>
              <a:rPr sz="3200"/>
            </a:br>
            <a:r>
              <a:rPr b="0" lang="en-US" sz="3200" spc="-1" strike="noStrike">
                <a:solidFill>
                  <a:srgbClr val="000000"/>
                </a:solidFill>
                <a:latin typeface="Calibri"/>
              </a:rPr>
              <a:t>- What factors make the bureaucracy power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lliam Howard Taft: “The true view of the executive function is, as I conceive it, that the president can exercise no power which cannot be fairly and reasonably traced to some specific grant of power of justly implied and included within such express grant as proper and necessary to its exercise.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h specific grant must be either in the federal Constitution or in can act of Congress passed in pursuance thereof. There is no undefined residuum of power which he can exercise because it seems to him to be in the public interest, and there is nothing in the . . . Law of the United States, or in any other precedents, warranting such an inferenc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jurisdiction must be justified and vindicated by affirmative constitutional or statutory provision or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yes, Taft is the president that (legend holds) got stuck in a bathtub due to his siz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s we will see, the powers of the executive have increased substantively, which was a concern the Anti-Federalists has about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never really said this:</a:t>
            </a:r>
            <a:endParaRPr b="0" lang="en-US" sz="2400" spc="-1" strike="noStrike">
              <a:solidFill>
                <a:srgbClr val="000000"/>
              </a:solidFill>
              <a:latin typeface="Calibri"/>
            </a:endParaRPr>
          </a:p>
        </p:txBody>
      </p:sp>
      <p:pic>
        <p:nvPicPr>
          <p:cNvPr id="79" name="Picture 2" descr="http://2.bp.blogspot.com/_EEtvwqEDyqs/TPzFCP-_rPI/AAAAAAAAAEM/XqbKnpatiTg/s1600/taft.gif"/>
          <p:cNvPicPr/>
          <p:nvPr/>
        </p:nvPicPr>
        <p:blipFill>
          <a:blip r:embed="rId1"/>
          <a:stretch/>
        </p:blipFill>
        <p:spPr>
          <a:xfrm>
            <a:off x="2057400" y="1219320"/>
            <a:ext cx="4952880" cy="52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ubs did get bigger:</a:t>
            </a:r>
            <a:endParaRPr b="0" lang="en-US" sz="2400" spc="-1" strike="noStrike">
              <a:solidFill>
                <a:srgbClr val="000000"/>
              </a:solidFill>
              <a:latin typeface="Calibri"/>
            </a:endParaRPr>
          </a:p>
        </p:txBody>
      </p:sp>
      <p:pic>
        <p:nvPicPr>
          <p:cNvPr id="81" name="Picture 2" descr="http://www.classroomhelp.com/lessons/Presidents/presimages/taft_bathtub.jpg"/>
          <p:cNvPicPr/>
          <p:nvPr/>
        </p:nvPicPr>
        <p:blipFill>
          <a:blip r:embed="rId1"/>
          <a:stretch/>
        </p:blipFill>
        <p:spPr>
          <a:xfrm>
            <a:off x="1066680" y="1371600"/>
            <a:ext cx="702468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saw himself as a leader, Taft saw himself as an officer responsible for carrying out the dictates of Congress and the mandates with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did not like Taft’s passivity, so he ran against him in 1912 as a third party candidate and split the Republican vote, which is how Woodrow Wilson becam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trivia: Taft would later serve as Chief Justice of the Supreme Court. He is the only person to occupy both positions.</a:t>
            </a: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ispute highlights ongoing questions about the role the president is supposed to play in the constitutional system – leader or follower – and what role the executive branch is supposed to play in huma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oints out the degree to which the activity of the executive branch is often a function of the personality of the person holding the office. </a:t>
            </a:r>
            <a:br>
              <a:rPr sz="4400"/>
            </a:br>
            <a:br>
              <a:rPr sz="4400"/>
            </a:br>
            <a:r>
              <a:rPr b="0" lang="en-US" sz="4400" spc="-1" strike="noStrike">
                <a:solidFill>
                  <a:srgbClr val="000000"/>
                </a:solidFill>
                <a:latin typeface="Calibri"/>
              </a:rPr>
              <a:t>This is a theme we will discuss in the next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some of the papers which highlighted Anti-Federalist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Let’s look at three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s noted before,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br>
              <a:rPr sz="4400"/>
            </a:br>
            <a:br>
              <a:rPr sz="4400"/>
            </a:br>
            <a:r>
              <a:rPr b="0" lang="en-US" sz="2800" spc="-1" strike="noStrike">
                <a:solidFill>
                  <a:srgbClr val="000000"/>
                </a:solidFill>
                <a:latin typeface="Calibri"/>
              </a:rPr>
              <a:t>Click here for separate lecture notes </a:t>
            </a:r>
            <a:br>
              <a:rPr sz="2800"/>
            </a:br>
            <a:r>
              <a:rPr b="0" lang="en-US" sz="2800" spc="-1" strike="noStrike">
                <a:solidFill>
                  <a:srgbClr val="000000"/>
                </a:solidFill>
                <a:latin typeface="Calibri"/>
              </a:rPr>
              <a:t>which describe this expan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br>
              <a:rPr sz="4400"/>
            </a:br>
            <a:br>
              <a:rPr sz="4400"/>
            </a:br>
            <a:r>
              <a:rPr b="0" lang="en-US" sz="3600" spc="-1" strike="noStrike">
                <a:solidFill>
                  <a:srgbClr val="000000"/>
                </a:solidFill>
                <a:latin typeface="Calibri"/>
              </a:rPr>
              <a:t>This is especially useful for a department headed by a single person – it allows for efficiency and speed in reacting to ev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click here for the director)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 has been noted as a key component of presidential strength. </a:t>
            </a:r>
            <a:br>
              <a:rPr sz="4400"/>
            </a:br>
            <a:br>
              <a:rPr sz="4400"/>
            </a:br>
            <a:r>
              <a:rPr b="0" lang="en-US" sz="4400" spc="-1" strike="noStrike">
                <a:solidFill>
                  <a:srgbClr val="000000"/>
                </a:solidFill>
                <a:latin typeface="Calibri"/>
              </a:rPr>
              <a:t>This allows presidents to use the media to connect with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This means that they 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was developed by Richard Neustadt (see the summary here). It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often claim that the power of the office has gone through distinct eras. Let’s quickly look at these</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cy</a:t>
            </a:r>
            <a:br>
              <a:rPr sz="4400"/>
            </a:br>
            <a:r>
              <a:rPr b="0" lang="en-US" sz="4400" spc="-1" strike="noStrike">
                <a:solidFill>
                  <a:srgbClr val="000000"/>
                </a:solidFill>
                <a:latin typeface="Calibri"/>
              </a:rPr>
              <a:t>Imperial Presidency</a:t>
            </a:r>
            <a:br>
              <a:rPr sz="4400"/>
            </a:br>
            <a:r>
              <a:rPr b="0" lang="en-US" sz="4400" spc="-1" strike="noStrike">
                <a:solidFill>
                  <a:srgbClr val="000000"/>
                </a:solidFill>
                <a:latin typeface="Calibri"/>
              </a:rPr>
              <a:t>Post Modern Presid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look at two aspects of this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Washington and Lincoln are argued to be two of the top three presidents (along with FDR). All served during times of crisis. Successful crisis management is held to be a major determinant of “great”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que power of each of these presidents was due partly to their personalities, but also due to the nature of the issues that dominated during their presidencies. Little institutional chance happened to the offic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ajor institutions were created – including the Interstate Commerce Commission (1887 – 1995), the Federal Bureau of Investigation (1908), the Federal Reserve (1913) and the Food and Drug Administration (1906) – but there was no solid ongoing push to have the national government either regulate the private sector of expand its police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wards the end of this era, the factors which contribute to executive power had expanded considerab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 (?)</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establishment of the Institutional Presidency</a:t>
            </a:r>
            <a:br>
              <a:rPr sz="4400"/>
            </a:br>
            <a:br>
              <a:rPr sz="4400"/>
            </a:br>
            <a:r>
              <a:rPr b="0" lang="en-US" sz="4400" spc="-1" strike="noStrike">
                <a:solidFill>
                  <a:srgbClr val="000000"/>
                </a:solidFill>
                <a:latin typeface="Calibri"/>
              </a:rPr>
              <a:t>As an institution – apart from the personality of the individual – became more expansive and powerful. The functions of the presidency expa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is generally argued to be 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increase in the sheer size of the executive branch. From three original departments, we now have 15, in addition to hundreds of bureaus, agencies and commission both inside and outside thos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media-2.web.britannica.com/eb-media/69/126069-050-9DA10309.jpg"/>
          <p:cNvPicPr/>
          <p:nvPr/>
        </p:nvPicPr>
        <p:blipFill>
          <a:blip r:embed="rId1"/>
          <a:stretch/>
        </p:blipFill>
        <p:spPr>
          <a:xfrm>
            <a:off x="609480" y="208080"/>
            <a:ext cx="7925040" cy="6269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osevelt purposely developed strong relationships with the press since he understood that they could help him pursue his agenda. </a:t>
            </a:r>
            <a:br>
              <a:rPr sz="3600"/>
            </a:br>
            <a:br>
              <a:rPr sz="3600"/>
            </a:br>
            <a:r>
              <a:rPr b="0" lang="en-US" sz="3600" spc="-1" strike="noStrike">
                <a:solidFill>
                  <a:srgbClr val="000000"/>
                </a:solidFill>
                <a:latin typeface="Calibri"/>
              </a:rPr>
              <a:t>They also agreed not to show photographs of FDR in his wheelchair in order to enhance the perception of his strength. Very few images exist of him in hos wheelchai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awesomestories.com/images/user/132ed66a96.jpg"/>
          <p:cNvPicPr/>
          <p:nvPr/>
        </p:nvPicPr>
        <p:blipFill>
          <a:blip r:embed="rId1"/>
          <a:stretch/>
        </p:blipFill>
        <p:spPr>
          <a:xfrm>
            <a:off x="1768320" y="396720"/>
            <a:ext cx="5699160" cy="5851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we see photographs like this. There are few images of him being lead to and from these spo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ponderingprinciples.com/wp-content/uploads/2009/03/fdr-standing.jpg"/>
          <p:cNvPicPr/>
          <p:nvPr/>
        </p:nvPicPr>
        <p:blipFill>
          <a:blip r:embed="rId1"/>
          <a:stretch/>
        </p:blipFill>
        <p:spPr>
          <a:xfrm>
            <a:off x="2286000" y="990720"/>
            <a:ext cx="4495680" cy="4816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ed the presidency in a time of economic crisis, which would spill over into military crisis soon enough. </a:t>
            </a:r>
            <a:br>
              <a:rPr sz="4400"/>
            </a:br>
            <a:br>
              <a:rPr sz="4400"/>
            </a:br>
            <a:r>
              <a:rPr b="0" lang="en-US" sz="4400" spc="-1" strike="noStrike">
                <a:solidFill>
                  <a:srgbClr val="000000"/>
                </a:solidFill>
                <a:latin typeface="Calibri"/>
              </a:rPr>
              <a:t>Crisis creates an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inaugural address he said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100 days in office, he requested that Congress pass numerous laws, and they did. Collectively these are called the  New Deal, which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crease in the advisory bodies available to the President to assist in managing these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the institutional basis of executive power was expanded considerably. </a:t>
            </a:r>
            <a:br>
              <a:rPr sz="3600"/>
            </a:br>
            <a:br>
              <a:rPr sz="3600"/>
            </a:br>
            <a:r>
              <a:rPr b="0" lang="en-US" sz="3600" spc="-1" strike="noStrike">
                <a:solidFill>
                  <a:srgbClr val="000000"/>
                </a:solidFill>
                <a:latin typeface="Calibri"/>
              </a:rPr>
              <a:t>This has led to backlash and attempts (as yet unsuccessful) to cut these programs back. This helps us understand much of the political rhetoric in recent years. But again, when constituencies develop for these programs, they become difficult to c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crease has been controversial. Many argue that the increase has taken the executive far beyond what was originally envisioned by the framers of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foreign involvement allowed the president to exert additional power in a policy area where he has constitutional autonomy. </a:t>
            </a:r>
            <a:br>
              <a:rPr sz="3600"/>
            </a:br>
            <a:br>
              <a:rPr sz="3600"/>
            </a:br>
            <a:r>
              <a:rPr b="0" lang="en-US" sz="3600" spc="-1" strike="noStrike">
                <a:solidFill>
                  <a:srgbClr val="000000"/>
                </a:solidFill>
                <a:latin typeface="Calibri"/>
              </a:rPr>
              <a:t>The position of Commander in Chief became paramount. After the end of World War II and the onset of the Cold War, the ongoing threat of military conflict made the executive stronger in the eye of the public than legislative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nd of World War II, a major transformation would occur in the military as well. The Defense Department (1949) and the Central Intelligence Agency (1947) would be created. </a:t>
            </a:r>
            <a:br>
              <a:rPr sz="4400"/>
            </a:br>
            <a:br>
              <a:rPr sz="4400"/>
            </a:br>
            <a:r>
              <a:rPr b="0" lang="en-US" sz="4400" spc="-1" strike="noStrike">
                <a:solidFill>
                  <a:srgbClr val="000000"/>
                </a:solidFill>
                <a:latin typeface="Calibri"/>
              </a:rPr>
              <a:t>US military influence was expanded considera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declaring war, military actions is instead authorized by acts of congress called: Authorizations for the Use of Military Force (AUM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3600" spc="-1" strike="noStrike">
                <a:solidFill>
                  <a:srgbClr val="000000"/>
                </a:solidFill>
                <a:latin typeface="Calibri"/>
              </a:rPr>
              <a:t>A term used to describe the presidencies of Lyndon Johnson and Richard Nixon when presidential power was suspected of becoming too powerful and potentially abusive. Both men were complex, and often paranoid about holding onto po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events during this time galvanized concerns about presidential power: the Vietnam War and the Watergate scand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2-11-05T03:56:42Z</dcterms:modified>
  <cp:revision>810</cp:revision>
  <dc:subject/>
  <dc:title>GOVT 2302</dc:title>
</cp:coreProperties>
</file>